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C5D-2EEB-48C3-8B81-3CF4118D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EAF-CCCF-43E1-9C25-27ABD52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965-E6A7-439F-9C05-ECE7FEE0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B1E-DEE4-4C12-8CEE-2042E0A1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E23-D6E7-4660-924E-D52B3B0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62C-A7ED-4985-AF4E-51326DC7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9D1-7FA2-4529-857E-77F9AE9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643-70D3-4DB3-9ECA-2235504F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613-9233-4F58-A8DE-D5E7484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FDB-7EF1-45A4-BACC-4CB8F4E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298-F8EB-4231-87E3-91699AF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4DF-D7FF-43AE-934C-D60AF27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FBEC-387A-4E5E-BA23-7CE3A47505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ar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MONTE CAST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LEGIÃO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Nickelback - Photograph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amor-beijo-homem-e-mulher-no-ceu-reflexo-planeta-estrelas-lindoooooo-fundo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49068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amor eu nada seri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imagem_gimp_mudar_cor00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RIVELAINE MILITÃO OTTERSBA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2" descr="anj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3529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amor eu nada s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2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9"/>
          <p:cNvSpPr/>
          <p:nvPr/>
        </p:nvSpPr>
        <p:spPr>
          <a:xfrm>
            <a:off x="3990960" y="2781360"/>
            <a:ext cx="1162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é bom, não quer o mal,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nte inveja ou se envaide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9103f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amor é o fogo que arde sem se ver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ferida que dói e não se s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contentamento descont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dor que desatina sem do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labio"/>
          <p:cNvPicPr/>
          <p:nvPr/>
        </p:nvPicPr>
        <p:blipFill>
          <a:blip r:embed="rId1"/>
          <a:stretch/>
        </p:blipFill>
        <p:spPr>
          <a:xfrm>
            <a:off x="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Ainda que eu falasse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A língua dos homens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 falasse a língua dos anjos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Sem amor eu nada ser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Nickelback - Photograph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347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olid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não querer mais que bem querer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solitário andar por entre a g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um não contentar-se de contente;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É cuidar que se ganha em se pe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70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um estar-se preso por vontade;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servir a quem vence, o vencedor;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É um ter com quem nos mata a lealdade.</a:t>
            </a:r>
            <a:br>
              <a:rPr sz="4400"/>
            </a:br>
            <a:r>
              <a:rPr b="0" lang="pt-BR" sz="4400" spc="-1" strike="noStrike">
                <a:solidFill>
                  <a:srgbClr val="808080"/>
                </a:solidFill>
                <a:latin typeface="Arial"/>
              </a:rPr>
              <a:t>Tão contrário a si é o mesmo am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B28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tou acordado e todos dormem.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odos dormem. Todos dormem.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ora vejo em parte,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s então veremos face a f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orkut-hi5-coracao_(8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28:29Z</dcterms:created>
  <dc:creator>SEDMS</dc:creator>
  <dc:description/>
  <dc:language>en-US</dc:language>
  <cp:lastModifiedBy>ACER</cp:lastModifiedBy>
  <dcterms:modified xsi:type="dcterms:W3CDTF">2010-10-19T22:04:07Z</dcterms:modified>
  <cp:revision>4</cp:revision>
  <dc:subject/>
  <dc:title>MONTE CASTELO</dc:title>
</cp:coreProperties>
</file>